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DEF-F968-4C1C-8D15-F6FB66A6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677-724B-4556-BC5C-6E9B8DED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6BF-0243-4A0E-BB50-845A877B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B83-3B73-4FF0-99E2-D59AA0F5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5B23-1794-4FFE-B007-D523B3AE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318C-A38C-4D38-BB1E-47DE87A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D49-E12D-48BE-A776-33902468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2790-67B8-4584-A3C4-078FE480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C5ED-CC3C-4E36-A8AE-2816C448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F5C-59D9-42A1-9E71-8DFD23E4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D68F-631B-48A8-A6E5-367F425E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218-7119-4E86-A6BE-D35208E2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3633-3F26-4962-8089-7B926DAD6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979640" y="2205000"/>
            <a:ext cx="4680000" cy="336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24000" y="549360"/>
            <a:ext cx="4897440" cy="1079280"/>
          </a:xfrm>
          <a:prstGeom prst="rect">
            <a:avLst/>
          </a:prstGeom>
        </p:spPr>
        <p:txBody>
          <a:bodyPr wrap="none" lIns="36360" rIns="36360" tIns="36360" bIns="3636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auhaus 93"/>
              </a:rPr>
              <a:t>G.R.I.T.S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auhaus 93"/>
              <a:ea typeface="Bauhaus 93"/>
            </a:endParaRPr>
          </a:p>
        </p:txBody>
      </p:sp>
      <p:sp>
        <p:nvSpPr>
          <p:cNvPr id="43" name=""/>
          <p:cNvSpPr/>
          <p:nvPr/>
        </p:nvSpPr>
        <p:spPr>
          <a:xfrm>
            <a:off x="1979640" y="1700280"/>
            <a:ext cx="496728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ff"/>
                </a:solidFill>
                <a:latin typeface="Bauhaus 93"/>
              </a:rPr>
              <a:t>Gore Rural Information Technology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516640"/>
            <a:ext cx="8353440" cy="792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ff"/>
                </a:solidFill>
                <a:latin typeface="Bauhaus 93"/>
              </a:rPr>
              <a:t>Vision:  Putting Effective Pedagogies into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39640" y="1268280"/>
          <a:ext cx="8136000" cy="4886280"/>
        </p:xfrm>
        <a:graphic>
          <a:graphicData uri="http://schemas.openxmlformats.org/drawingml/2006/table">
            <a:tbl>
              <a:tblPr/>
              <a:tblGrid>
                <a:gridCol w="5472360"/>
                <a:gridCol w="1368360"/>
                <a:gridCol w="12952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/Teac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scho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Achie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9640" y="1268280"/>
          <a:ext cx="8136000" cy="4886280"/>
        </p:xfrm>
        <a:graphic>
          <a:graphicData uri="http://schemas.openxmlformats.org/drawingml/2006/table">
            <a:tbl>
              <a:tblPr/>
              <a:tblGrid>
                <a:gridCol w="5472360"/>
                <a:gridCol w="1368360"/>
                <a:gridCol w="1295280"/>
              </a:tblGrid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ool/Teach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lea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st effective school, most effectiv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effective school, average teac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 school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can we continue to have effective schools filled with effective teachers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uster can help with this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2060640"/>
            <a:ext cx="8136000" cy="44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Pedag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341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050920" y="1484280"/>
            <a:ext cx="5256360" cy="3645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55897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effective pedagogy for our classrooms in our schoo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.Z. Curriculum – Effective Pedag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supportive learn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 reflective thought and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 the relevance of new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ilitate shared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connections to prior learning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fficient opportunities to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quire into the teaching-learning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ive Pedagogy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Instructional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Management                    D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room Curriculum Design           Hargr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se three together comprise effective pedag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CT fit in 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t is a series of tools which facilit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ers to more effectively provide gr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aching and learning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ity:  Diamond Ra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27640" y="1268280"/>
            <a:ext cx="503280" cy="1584360"/>
          </a:xfrm>
          <a:custGeom>
            <a:avLst/>
            <a:gdLst>
              <a:gd name="textAreaLeft" fmla="*/ 0 w 503280"/>
              <a:gd name="textAreaRight" fmla="*/ 181800 w 503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assroom Instruction that Works – Effect Si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83160"/>
        </p:xfrm>
        <a:graphic>
          <a:graphicData uri="http://schemas.openxmlformats.org/drawingml/2006/table">
            <a:tbl>
              <a:tblPr/>
              <a:tblGrid>
                <a:gridCol w="4186080"/>
                <a:gridCol w="1368720"/>
                <a:gridCol w="1296720"/>
                <a:gridCol w="1378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ve. Effect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centile G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# of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dentify Similarities and differ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ummarizing and note t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inforcing effort and providing recogn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omework and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nlinguistic represen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-operative lea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etting objectives and providing feedb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ting and testing hypothe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estions, Cues and organiz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.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395280" y="6308640"/>
            <a:ext cx="84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: Robert Marzano’s meta analysis of 35 years of 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ICT f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Identifying similarities and difference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graphic organisers- venn diagrams/tcharts, Bloom’s – higher order, thinking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Summarizing and note 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group using skrbl (online), kidspiration, in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Reinforcing effort and providing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brics, certificates, online recognition – blogs, websites, create digital outlines etc, multiple intellig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Homework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ine format – wikispace/website, computer programmes – practice e.g. times attack, spellcaster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Non-linguistic repres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O.’s, inspiration/kidspiration, Graphics-images, video – teacher tube etc, digital stories/ana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Co-operative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online environments, skype, WEB 2.0 – interactive, computers – tools for shar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. Setting objectives and providing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ata projectors – explicitly stated L.I.s &amp; S.C.s. Online feedback – blogs, websites.  Rubrics – feedback,refl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Generating and testing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nline inquiry, spidermonkey-collating data, excel-graphs, word or PowerPoint to pub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.  Questioning, cues and organi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questioning skills, G.O.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Pedag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ider the following statement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ere you would sit on a continu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 teach is more important than how I teac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always had successful students so we don’t need to change how we teac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students’ behaviour limits my teaching approach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have the greatest responsibility for their own learn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are you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416320" y="1708200"/>
            <a:ext cx="4313160" cy="4313160"/>
            <a:chOff x="2416320" y="1708200"/>
            <a:chExt cx="4313160" cy="4313160"/>
          </a:xfrm>
        </p:grpSpPr>
        <p:sp>
          <p:nvSpPr>
            <p:cNvPr id="63" name="_s10252"/>
            <p:cNvSpPr/>
            <p:nvPr/>
          </p:nvSpPr>
          <p:spPr>
            <a:xfrm flipH="1">
              <a:off x="3492360" y="3863880"/>
              <a:ext cx="5414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251"/>
            <p:cNvSpPr/>
            <p:nvPr/>
          </p:nvSpPr>
          <p:spPr>
            <a:xfrm>
              <a:off x="2416320" y="3325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lassroo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0255"/>
            <p:cNvSpPr/>
            <p:nvPr/>
          </p:nvSpPr>
          <p:spPr>
            <a:xfrm>
              <a:off x="4572000" y="4402080"/>
              <a:ext cx="0" cy="54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0254"/>
            <p:cNvSpPr/>
            <p:nvPr/>
          </p:nvSpPr>
          <p:spPr>
            <a:xfrm>
              <a:off x="4033800" y="494352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Teac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CT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250"/>
            <p:cNvSpPr/>
            <p:nvPr/>
          </p:nvSpPr>
          <p:spPr>
            <a:xfrm>
              <a:off x="5110200" y="3863880"/>
              <a:ext cx="541440" cy="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0249"/>
            <p:cNvSpPr/>
            <p:nvPr/>
          </p:nvSpPr>
          <p:spPr>
            <a:xfrm>
              <a:off x="5651640" y="3325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ers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CT Ski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0248"/>
            <p:cNvSpPr/>
            <p:nvPr/>
          </p:nvSpPr>
          <p:spPr>
            <a:xfrm flipV="1">
              <a:off x="4572000" y="2784240"/>
              <a:ext cx="0" cy="54144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247"/>
            <p:cNvSpPr/>
            <p:nvPr/>
          </p:nvSpPr>
          <p:spPr>
            <a:xfrm>
              <a:off x="4033800" y="170820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ware o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0246"/>
            <p:cNvSpPr/>
            <p:nvPr/>
          </p:nvSpPr>
          <p:spPr>
            <a:xfrm>
              <a:off x="4033800" y="3325680"/>
              <a:ext cx="1077840" cy="107784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nklepants"/>
                </a:rPr>
                <a:t>YO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332000" y="1197000"/>
            <a:ext cx="6480000" cy="5472000"/>
          </a:xfrm>
          <a:prstGeom prst="donut">
            <a:avLst>
              <a:gd name="adj" fmla="val 77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132000" y="6093000"/>
            <a:ext cx="3095640" cy="279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Effective Pedagogy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uster Progre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1052640"/>
          <a:ext cx="8229600" cy="4879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wareness of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sonal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acher 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lassroom 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nows about different software &amp; hard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n’t currently use ICT tools unless you have to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don’t acknowledge the merits of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t familiar with computers or other common too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le to use some software for personal 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some ICT tools for personal use e.g. camera, video, scan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- Knows the merits of ICT but still un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miliar with computers for personal use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ble to use software to enhance lear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es ICT skills in some classroom contex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– ICT to enhance teaching and learning opportun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ing computers in teacher contexts e.g. planning, assessment,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rgets software to meet learning nee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ilitates students ICT skills in every appropriate con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re Values – ICT is a necessity – we deprive students if we don’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nfidently tries new ICT tools in classroom program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468360" y="6093000"/>
            <a:ext cx="82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ere do you fit best, where does your school and teachers f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3:29:04Z</dcterms:created>
  <dc:creator>Kim Scott</dc:creator>
  <dc:description/>
  <dc:language>en-US</dc:language>
  <cp:lastModifiedBy>Kim Scott</cp:lastModifiedBy>
  <dcterms:modified xsi:type="dcterms:W3CDTF">2008-08-21T06:54:07Z</dcterms:modified>
  <cp:revision>10</cp:revision>
  <dc:subject/>
  <dc:title>Slide 1</dc:title>
</cp:coreProperties>
</file>